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C4BA-E102-43D3-ADAE-1F2FCE49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DCFF-5FD4-47BB-87BE-DAA944B2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B3F4-B9B5-4138-8A59-4B584F26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1529-14B7-44C2-81B9-F357EB73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A429-8EE5-4822-8AF9-54B3041E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8240-B1CD-4CB2-A47F-31DEFE8E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358D-EF5E-4581-8724-82FE56EB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0DDD-6AC3-4B8B-B4A6-965CB725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457F-DCA8-4377-9A80-2F6F45B7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413C-7193-42F8-A83C-7CFDFF22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6134-7AB9-4E60-9333-559F8565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4F78-7988-4394-ADFF-AAA79915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3B2C-F148-41B3-9A65-D9D4044DC2D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68360" y="2958480"/>
            <a:ext cx="4896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10:04:51Z</dcterms:modified>
  <cp:revision>698</cp:revision>
  <dc:subject/>
  <dc:title>Diapositiva 1</dc:title>
</cp:coreProperties>
</file>